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893-1743-4068-BCEB-573718E3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4A4-0CAA-4D33-A183-564EDE8D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E57-1D6B-4DD6-A848-2FC5F45A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2BA-C08A-4F69-AD24-38C91FEB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E8A4-03E4-46FB-80AE-186BFF4E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806B-62A5-421C-A158-3301DA26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704E-87B5-4EE6-9A46-BB9BC352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2B73-E5E2-4EC1-8EB7-14821ADD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2269-C823-4F9A-94D0-6BB82290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79AE-0ED7-4404-8483-C4B234F9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D0CF-2A11-445E-B1CB-BF5DDE3F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9C9-F1D2-4793-88EF-33B2A61C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F361-0BCC-48DB-9AAC-0E23D20F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24F1-36FD-4E2F-AC98-5000D410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15A4-A1F5-4C17-B66F-CD1E0241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3D78-A609-4CA0-8DE3-7BDFE17F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A667-0B59-46BF-9051-821806B3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177-839B-4E4D-97BE-36956434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14B-0EC8-4D51-AB86-6775820C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7E8-4701-4E46-8462-740C8BEF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4EA-C5A7-46E0-88F0-79AEA5B6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5A2-0AA2-45D8-98ED-5CCF959D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1DB-9240-474B-83DA-A0C6E3CA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D71-F298-4C6E-94AA-C57AE894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99EE-23B5-43DE-8AE8-F81668BAE3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D712-9BE1-47B7-8D48-5015637C4D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«Схемы строповки груз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653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формирования набора используемых грузов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в зависимости от типа и массы груза соответствующих схем строповки и грузозахватных приспособлений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: набора схем строповки, таблицы грузов, таблицы грузозахватных приспособлений, текста примечани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ется база данных грузов, в которой для каждого типа и марки груза содержится схема строповки и наборы грузозахватных приспособлений при разгрузке и монтаж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8323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сформировать набор грузов для вставки соответствующих схем и таблиц в чертеж. Имеется возможность сохранить набор грузов для его дальнейшего использования, в том числе и в программном модуле 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ор кран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954080" y="890640"/>
            <a:ext cx="57722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е схемы строповк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36904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хемы строповки на чертеже группируются в бло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93800" y="1501920"/>
            <a:ext cx="7785000" cy="37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аблицы грузов и грузозахватных приспособле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40072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вставки в чертеж таблиц грузов и грузозахватных приспособл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620640" y="3054240"/>
            <a:ext cx="8256600" cy="2212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2309760" y="1347840"/>
            <a:ext cx="4848120" cy="13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кст примеча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340000" y="973080"/>
            <a:ext cx="4948200" cy="512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6T12:51:30Z</dcterms:modified>
  <cp:revision>261</cp:revision>
  <dc:subject/>
  <dc:title>Слайд 1</dc:title>
</cp:coreProperties>
</file>